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73.png" ContentType="image/png"/>
  <Override PartName="/ppt/media/image57.jpeg" ContentType="image/jpeg"/>
  <Override PartName="/ppt/media/image60.gif" ContentType="image/gif"/>
  <Override PartName="/ppt/media/image54.jpeg" ContentType="image/jpeg"/>
  <Override PartName="/ppt/media/image33.png" ContentType="image/png"/>
  <Override PartName="/ppt/media/image49.jpeg" ContentType="image/jpeg"/>
  <Override PartName="/ppt/media/image8.gif" ContentType="image/gif"/>
  <Override PartName="/ppt/media/image48.jpeg" ContentType="image/jpeg"/>
  <Override PartName="/ppt/media/image75.gif" ContentType="image/gif"/>
  <Override PartName="/ppt/media/image53.jpeg" ContentType="image/jpeg"/>
  <Override PartName="/ppt/media/image23.png" ContentType="image/png"/>
  <Override PartName="/ppt/media/image47.gif" ContentType="image/gif"/>
  <Override PartName="/ppt/media/image26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5.jpeg" ContentType="image/jpeg"/>
  <Override PartName="/ppt/media/image36.jpeg" ContentType="image/jpeg"/>
  <Override PartName="/ppt/media/image2.jpeg" ContentType="image/jpeg"/>
  <Override PartName="/ppt/media/image11.png" ContentType="image/png"/>
  <Override PartName="/ppt/media/image9.jpeg" ContentType="image/jpeg"/>
  <Override PartName="/ppt/media/image3.jpeg" ContentType="image/jpeg"/>
  <Override PartName="/ppt/media/image67.png" ContentType="image/png"/>
  <Override PartName="/ppt/media/image24.jpeg" ContentType="image/jpeg"/>
  <Override PartName="/ppt/media/image66.jpeg" ContentType="image/jpeg"/>
  <Override PartName="/ppt/media/image59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77.png" ContentType="image/png"/>
  <Override PartName="/ppt/media/image74.png" ContentType="image/png"/>
  <Override PartName="/ppt/media/image61.jpeg" ContentType="image/jpeg"/>
  <Override PartName="/ppt/media/image64.jpeg" ContentType="image/jpeg"/>
  <Override PartName="/ppt/media/image7.jpeg" ContentType="image/jpeg"/>
  <Override PartName="/ppt/media/image71.jpeg" ContentType="image/jpeg"/>
  <Override PartName="/ppt/media/image32.jpeg" ContentType="image/jpeg"/>
  <Override PartName="/ppt/media/image70.jpeg" ContentType="image/jpeg"/>
  <Override PartName="/ppt/media/image65.jpeg" ContentType="image/jpeg"/>
  <Override PartName="/ppt/media/image17.png" ContentType="image/png"/>
  <Override PartName="/ppt/media/image39.jpeg" ContentType="image/jpeg"/>
  <Override PartName="/ppt/media/image21.jpeg" ContentType="image/jpeg"/>
  <Override PartName="/ppt/media/image69.jpeg" ContentType="image/jpeg"/>
  <Override PartName="/ppt/media/image25.jpeg" ContentType="image/jpeg"/>
  <Override PartName="/ppt/media/image68.jpeg" ContentType="image/jpeg"/>
  <Override PartName="/ppt/media/image62.jpeg" ContentType="image/jpeg"/>
  <Override PartName="/ppt/media/image19.png" ContentType="image/png"/>
  <Override PartName="/ppt/media/image4.gif" ContentType="image/gif"/>
  <Override PartName="/ppt/media/image22.jpeg" ContentType="image/jpeg"/>
  <Override PartName="/ppt/media/image63.jpeg" ContentType="image/jpeg"/>
  <Override PartName="/ppt/media/image6.jpeg" ContentType="image/jpeg"/>
  <Override PartName="/ppt/media/image50.jpeg" ContentType="image/jpeg"/>
  <Override PartName="/ppt/media/image1.png" ContentType="image/png"/>
  <Override PartName="/ppt/media/image52.jpeg" ContentType="image/jpeg"/>
  <Override PartName="/ppt/media/image38.jpeg" ContentType="image/jpeg"/>
  <Override PartName="/ppt/media/image72.png" ContentType="image/png"/>
  <Override PartName="/ppt/media/image27.jpeg" ContentType="image/jpeg"/>
  <Override PartName="/ppt/media/image10.jpeg" ContentType="image/jpeg"/>
  <Override PartName="/ppt/media/image28.jpeg" ContentType="image/jpeg"/>
  <Override PartName="/ppt/media/image18.jpeg" ContentType="image/jpeg"/>
  <Override PartName="/ppt/media/image12.png" ContentType="image/png"/>
  <Override PartName="/ppt/media/image13.jpeg" ContentType="image/jpeg"/>
  <Override PartName="/ppt/media/image51.gif" ContentType="image/gif"/>
  <Override PartName="/ppt/media/image76.jpeg" ContentType="image/jpeg"/>
  <Override PartName="/ppt/media/image30.jpeg" ContentType="image/jpeg"/>
  <Override PartName="/ppt/media/image29.jpeg" ContentType="image/jpeg"/>
  <Override PartName="/ppt/media/image37.wmf" ContentType="image/x-wmf"/>
  <Override PartName="/ppt/media/image31.jpeg" ContentType="image/jpeg"/>
  <Override PartName="/ppt/media/image55.jpeg" ContentType="image/jpeg"/>
  <Override PartName="/ppt/media/image40.gif" ContentType="image/gif"/>
  <Override PartName="/ppt/media/image56.jpeg" ContentType="image/jpeg"/>
  <Override PartName="/ppt/media/image34.png" ContentType="image/png"/>
  <Override PartName="/ppt/media/image35.jpeg" ContentType="image/jpeg"/>
  <Override PartName="/ppt/media/image4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02B2-B208-450A-A3CE-E32B0DFD9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BB68-3BD2-4F58-A5EC-0CCCDE920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rockwoodwaterandgas.com/sitebuildercontent/sitebuilderpictures/.pond/SAFETY.jpg.w300h388.jp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73EB-8ECA-45FD-8F1A-30EFC5DF9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cartoonstock.com/newscartoons/cartoonists/mfl/lowres/mfln160l.jpg&amp;imgrefurl=http://www.cartoonstock.com/directory/s/science_lab.asp&amp;h=400&amp;w=370&amp;sz=27&amp;hl=en&amp;start=2&amp;um=1&amp;tbnid=XdURqFQR7vf2GM:&amp;tbnh=124&amp;tbnw=115&amp;prev=/images%3Fq%3Dscience%2Blab%2Bsafety%2Bicons%26svnum%3D10%26um%3D1%26hl%3Den%26rls%3DGGLB,GGLB:1969-53,GGLB:en%26sa%3D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AF1F-B619-4C40-9BB3-3AF5B1222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1773-B51A-4371-B3A2-7D19FCC23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269F-AF33-4A5D-A2E9-A33E4243A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6549-CE91-401D-9EFA-A70224209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artoonstock.com/newscartoons/cartoonists/rha/lowres/rhan190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E810-F0A2-4F97-84AE-2FBCC62F2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1D48-BBCC-4526-AEA1-A92091212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08C8-05F3-4BB8-B7B3-9B60AC909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tah.edu/facilities/safety/18choo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CD94-5F26-4B61-ADC2-7238419C9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tah.edu/facilities/safety/18chood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00EA-356E-4086-8EEF-EF304D027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inkycircus.com/jargon/images/guineapig_5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3FFB-F14D-4D76-AA63-840D841B1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1B12-B0F4-49BB-90A3-D2433D028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taffwww.fullcoll.edu/jchadwick/science2.gi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CE35-8DB2-4806-B775-4D0152C3E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3FFC-FB9F-49DF-AD74-E3E2F2EDB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463F-913C-47CC-ABE9-3E04BA625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A02A-C7FD-4D35-B91D-0E5E501CC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artoonstock.com/lowres/sea0209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E3C3-6458-45A1-89E2-F58A68A3E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292F-365F-4BE2-8D6E-E0FB3211B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F2AF-7572-4990-80F3-3371D2AE4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linn.edu/brazos/natscience/lab/man.gi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morrisonlabs.com/images/lab%2520safety/labkidsmistakes.jpg&amp;imgrefurl=http://www.morrisonlabs.com/lab_safety.htm&amp;h=319&amp;w=600&amp;sz=32&amp;hl=en&amp;start=101&amp;um=1&amp;tbnid=ijK8pYVbZiTVaM:&amp;tbnh=72&amp;tbnw=135&amp;prev=/images%3Fq%3Dlab%2Bsafety%2Bimages%26start%3D10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846E-820D-481F-9EB7-27E25233B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utpb.edu/utpb_adm/BusinessAffairs/OfficeOfEHS/images/safety_main.jpg&amp;imgrefurl=http://www.utpb.edu/utpb_adm/BusinessAffairs/OfficeOfEHS/index_frame.htm&amp;h=360&amp;w=358&amp;sz=49&amp;tbnid=M4hbjYJ8bTeETM:&amp;tbnh=121&amp;tbnw=120&amp;prev=/images%3Fq%3Dsafety%2Bimages%26um%3D1&amp;start=1&amp;sa=X&amp;oi=images&amp;ct=image&amp;cd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3F09-9190-4DD8-AFDF-EF0C11AD3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D3BF-884D-4618-B749-E7F425F0A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833D-8F52-4A11-ADF0-39BED2E023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morrisonlabs.com/images/lab%2520safety/labkidsmistakes.jpg&amp;imgrefurl=http://www.morrisonlabs.com/lab_safety.htm&amp;h=319&amp;w=600&amp;sz=32&amp;hl=en&amp;start=101&amp;um=1&amp;tbnid=ijK8pYVbZiTVaM:&amp;tbnh=72&amp;tbnw=135&amp;prev=/images%3Fq%3Dlab%2Bsafety%2Bimages%26start%3D10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6074-B647-4C1E-9132-D574FF362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morrisonlabs.com/images/lab%2520safety/labkidsmistakes.jpg&amp;imgrefurl=http://www.morrisonlabs.com/lab_safety.htm&amp;h=319&amp;w=600&amp;sz=32&amp;hl=en&amp;start=101&amp;um=1&amp;tbnid=ijK8pYVbZiTVaM:&amp;tbnh=72&amp;tbnw=135&amp;prev=/images%3Fq%3Dlab%2Bsafety%2Bimages%26start%3D10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0F63-57F8-4996-9484-FCEC4EA3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sme.clc.uc.edu/labsafety/Amy%2520%26%2520Shower.JPG&amp;imgrefurl=http://sme.clc.uc.edu/labsafety/index.htm&amp;h=400&amp;w=400&amp;sz=166&amp;hl=en&amp;start=41&amp;um=1&amp;tbnid=kaMEXKY4mzKodM:&amp;tbnh=124&amp;tbnw=124&amp;prev=/images%3Fq%3Dlab%2Bsafety%2Bimages%26start%3D40%26ndsp%3D20%26svnum%3D10%26um%3D1%26hl%3Den%26rls%3DGGLB,GGLB:1969-53,GGLB:en%26sa%3D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www.morrisonlabs.com/images/lab%2520safety/labkidsmistakes.jpg&amp;imgrefurl=http://www.morrisonlabs.com/lab_safety.htm&amp;h=319&amp;w=600&amp;sz=32&amp;hl=en&amp;start=101&amp;um=1&amp;tbnid=ijK8pYVbZiTVaM:&amp;tbnh=72&amp;tbnw=135&amp;prev=/images%3Fq%3Dlab%2Bsafety%2Bimages%26start%3D10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94C6-D272-46A1-A360-A9EA3E946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google.com/imgres?imgurl=http://68.90.81.6/ScienceTAKS/Integration/Science%2520TAKS%2520Objective%25201/safety4.jpg&amp;imgrefurl=http://68.90.81.6/ScienceTAKS/Integration/Science%2520TAKS%2520Objective%25201/safetysymbols.htm&amp;h=95&amp;w=93&amp;sz=3&amp;hl=en&amp;start=32&amp;um=1&amp;tbnid=AOIrcMWCY6-NPM:&amp;tbnh=80&amp;tbnw=78&amp;prev=/images%3Fq%3DLab%2BSafety%2BSymbols%26start%3D20%26ndsp%3D20%26svnum%3D10%26um%3D1%26hl%3Den%26rls%3DGGLB,GGLB:1969-53,GGLB:en%26sa%3D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454-FDF7-4DA0-A7EB-F76E0E2B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E8D-F569-4BD4-8D6E-D27D4AA1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65E-88B0-4FDB-A460-0FF66E9E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DE33-0971-4430-8A11-F24579A2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9A4C-323B-459C-99CC-FD1E0AE3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626A-834C-47E0-9BDE-4BE9FA63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B1A3-4C1C-4454-B088-D1F4C23F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55EA-CE43-4653-9F37-51A75C3D1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C4F3-7557-4351-B395-9D16917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2896-F3B4-490D-AF1B-81602339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1F2C-C59B-4EC4-9555-C1A88BD9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FF45-0FD0-4DEA-910D-28B7D3CF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CEBC-ACBD-4AB4-8259-20DF51F1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ED6E-3EF4-4232-AF59-5960C56B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F30D-4853-4DB0-B62F-3D833923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7332-C9FE-4361-B435-2E79EFE8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4950-F44B-4B52-B9A2-65BCDDBE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34C6-A0B5-4F61-A8CA-0F25B6E6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149-F4CD-4214-925F-DA173569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E19-A349-4D7E-A8FB-13A5D91C8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3A94-0FFA-4AF6-B184-DEF66515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FAE4-3D0B-432A-9986-83B22D48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8A9-E4CA-417C-95F6-FD0B0746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ADB5-2572-4D37-80FB-CCA111CF0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A3AB-5131-43F0-8062-BA682632E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9265-241D-4824-B336-834F417F8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images.google.com/imgres?imgurl=http://www.foodprotection.org/images/Icons/HANDWASH_TN.GIF&amp;imgrefurl=http://www.foodprotection.org/aboutIAFP/IconMain.asp&amp;h=157&amp;w=150&amp;sz=3&amp;tbnid=z8ZMmVYM_8EpkM:&amp;tbnh=97&amp;tbnw=93&amp;prev=/images%3Fq%3Dsafety%2Bicons%26um%3D1&amp;start=2&amp;sa=X&amp;oi=images&amp;ct=image&amp;cd=2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mark.stosberg.com/Juggle/knive_under_leg_mp.jpg&amp;imgrefurl=http://www.stosberg.com/Juggle/&amp;h=876&amp;w=1059&amp;sz=116&amp;hl=en&amp;start=7&amp;um=1&amp;tbnid=3ae-vm5TNoE7SM:&amp;tbnh=124&amp;tbnw=150&amp;prev=/images%3Fq%3Dknife%2Bjuggling%26svnum%3D10%26um%3D1%26hl%3Den%26rls%3DGGLB,GGLB:1969-53,GGLB:en%26sa%3DN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9.jpeg"/><Relationship Id="rId3" Type="http://schemas.openxmlformats.org/officeDocument/2006/relationships/hyperlink" Target="http://images.google.com/imgres?imgurl=http://www.biggamehunt.net/graphics/photos_talltales/knife_basics_2.gif&amp;imgrefurl=http://www.biggamehunt.net/sections/Off_Season/Hunting_Knife_Basics_06280412.html&amp;h=521&amp;w=400&amp;sz=22&amp;hl=en&amp;start=25&amp;um=1&amp;tbnid=jWJuVmlcJYGvaM:&amp;tbnh=131&amp;tbnw=101&amp;prev=/images%3Fq%3Dknife%2Bthrowing%2Bcartoons%26start%3D20%26ndsp%3D20%26svnum%3D10%26um%3D1%26hl%3Den%26rls%3DGGLB,GGLB:1969-53,GGLB:en%26sa%3DN" TargetMode="External"/><Relationship Id="rId4" Type="http://schemas.openxmlformats.org/officeDocument/2006/relationships/image" Target="../media/image35.jpeg"/><Relationship Id="rId5" Type="http://schemas.openxmlformats.org/officeDocument/2006/relationships/image" Target="../media/image30.jpeg"/><Relationship Id="rId6" Type="http://schemas.openxmlformats.org/officeDocument/2006/relationships/image" Target="../media/image32.jpeg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hyperlink" Target="http://images.google.com/imgres?imgurl=http://www.ueinet.com/images/pages/ElectricalSafety.jpg&amp;imgrefurl=http://www.ueinet.com/safety/&amp;h=367&amp;w=432&amp;sz=25&amp;hl=en&amp;start=26&amp;um=1&amp;tbnid=CQuZ2FmN7PUlKM:&amp;tbnh=107&amp;tbnw=126&amp;prev=/images%3Fq%3Dsafety%2Bimages%26start%3D20%26ndsp%3D20%26svnum%3D10%26um%3D1%26hl%3Den%26rls%3DGGLB,GGLB:1969-53,GGLB:en%26sa%3DN" TargetMode="External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37.wmf"/><Relationship Id="rId3" Type="http://schemas.openxmlformats.org/officeDocument/2006/relationships/image" Target="../media/image42.jpeg"/><Relationship Id="rId4" Type="http://schemas.openxmlformats.org/officeDocument/2006/relationships/image" Target="../media/image33.png"/><Relationship Id="rId5" Type="http://schemas.openxmlformats.org/officeDocument/2006/relationships/image" Target="../media/image4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shutterstock.com/subscribe.mhtml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45.jpeg"/><Relationship Id="rId5" Type="http://schemas.openxmlformats.org/officeDocument/2006/relationships/image" Target="../media/image23.png"/><Relationship Id="rId6" Type="http://schemas.openxmlformats.org/officeDocument/2006/relationships/image" Target="../media/image46.jpeg"/><Relationship Id="rId7" Type="http://schemas.openxmlformats.org/officeDocument/2006/relationships/image" Target="../media/image4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45.jpeg"/><Relationship Id="rId4" Type="http://schemas.openxmlformats.org/officeDocument/2006/relationships/image" Target="../media/image23.png"/><Relationship Id="rId5" Type="http://schemas.openxmlformats.org/officeDocument/2006/relationships/image" Target="../media/image46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image" Target="../media/image55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7.jpeg"/><Relationship Id="rId3" Type="http://schemas.openxmlformats.org/officeDocument/2006/relationships/image" Target="../media/image59.png"/><Relationship Id="rId4" Type="http://schemas.openxmlformats.org/officeDocument/2006/relationships/image" Target="../media/image6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68.90.81.6/ScienceTAKS/Integration/index_HOME%20PAGE.htm" TargetMode="External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shutterstock.com/subscribe.mhtml" TargetMode="External"/><Relationship Id="rId3" Type="http://schemas.openxmlformats.org/officeDocument/2006/relationships/image" Target="../media/image10.jpeg"/><Relationship Id="rId4" Type="http://schemas.openxmlformats.org/officeDocument/2006/relationships/hyperlink" Target="http://www.shutterstock.com/subscribe.mhtml" TargetMode="External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hutterstock.com/subscribe.mhtml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shutterstock.com/subscribe.mhtml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hitworth.edu/Academic/Department/Chemistry/Classes/Images/goggles2.gif" TargetMode="External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tigerlair.com/hotdogandahalf/bear-goggles.jpg&amp;imgrefurl=http://www.mhd.miun.se/~stok/ghetto-gps/&amp;h=824&amp;w=942&amp;sz=127&amp;tbnid=v8HUiAYV7ZeDyM:&amp;tbnh=129&amp;tbnw=148&amp;prev=/images%3Fq%3Dsafety%2Bgoggles%26um%3D1&amp;start=3&amp;sa=X&amp;oi=images&amp;ct=image&amp;cd=3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hyperlink" Target="http://www.whitworth.edu/Academic/Department/Chemistry/Classes/Images/goggles2.gif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18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coop.uvic.ca/whmis/image/apron2.jpg&amp;imgrefurl=http://www.coop.uvic.ca/whmis/ppesym.html&amp;h=141&amp;w=150&amp;sz=5&amp;hl=en&amp;start=45&amp;um=1&amp;tbnid=duLtNRqraDvpxM:&amp;tbnh=90&amp;tbnw=96&amp;prev=/images%3Fq%3Dlab%2Bapron%2Bsymbol%26start%3D40%26ndsp%3D20%26svnum%3D10%26um%3D1%26hl%3Den%26rls%3DGGLB,GGLB:1969-53,GGLB:en%26sa%3DN" TargetMode="External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images.google.com/imgres?imgurl=http://www.foodprotection.org/images/Icons/HANDWASH_TN.GIF&amp;imgrefurl=http://www.foodprotection.org/aboutIAFP/IconMain.asp&amp;h=157&amp;w=150&amp;sz=3&amp;tbnid=z8ZMmVYM_8EpkM:&amp;tbnh=97&amp;tbnw=93&amp;prev=/images%3Fq%3Dsafety%2Bicons%26um%3D1&amp;start=2&amp;sa=X&amp;oi=images&amp;ct=image&amp;cd=2" TargetMode="External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257800" y="837720"/>
            <a:ext cx="345456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afety and Rules of 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he La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9" descr="SAFETY"/>
          <p:cNvPicPr/>
          <p:nvPr/>
        </p:nvPicPr>
        <p:blipFill>
          <a:blip r:embed="rId1"/>
          <a:srcRect l="5329" t="12371" r="4006" b="7218"/>
          <a:stretch/>
        </p:blipFill>
        <p:spPr>
          <a:xfrm>
            <a:off x="5562720" y="3200400"/>
            <a:ext cx="2590560" cy="29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Beaker.gif - (2K)"/>
          <p:cNvPicPr/>
          <p:nvPr/>
        </p:nvPicPr>
        <p:blipFill>
          <a:blip r:embed="rId2"/>
          <a:stretch/>
        </p:blipFill>
        <p:spPr>
          <a:xfrm>
            <a:off x="3962520" y="3048120"/>
            <a:ext cx="879480" cy="1000080"/>
          </a:xfrm>
          <a:prstGeom prst="rect">
            <a:avLst/>
          </a:prstGeom>
          <a:ln w="0">
            <a:noFill/>
          </a:ln>
        </p:spPr>
      </p:pic>
      <p:grpSp>
        <p:nvGrpSpPr>
          <p:cNvPr id="100" name="Group 14"/>
          <p:cNvGrpSpPr/>
          <p:nvPr/>
        </p:nvGrpSpPr>
        <p:grpSpPr>
          <a:xfrm>
            <a:off x="1295280" y="838080"/>
            <a:ext cx="3784680" cy="4876920"/>
            <a:chOff x="1295280" y="838080"/>
            <a:chExt cx="3784680" cy="4876920"/>
          </a:xfrm>
        </p:grpSpPr>
        <p:pic>
          <p:nvPicPr>
            <p:cNvPr id="101" name="Picture 7" descr="618704"/>
            <p:cNvPicPr/>
            <p:nvPr/>
          </p:nvPicPr>
          <p:blipFill>
            <a:blip r:embed="rId3"/>
            <a:stretch/>
          </p:blipFill>
          <p:spPr>
            <a:xfrm>
              <a:off x="1295280" y="838080"/>
              <a:ext cx="378468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12"/>
            <p:cNvSpPr/>
            <p:nvPr/>
          </p:nvSpPr>
          <p:spPr>
            <a:xfrm>
              <a:off x="3962520" y="5181480"/>
              <a:ext cx="914400" cy="4572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3"/>
            <p:cNvSpPr/>
            <p:nvPr/>
          </p:nvSpPr>
          <p:spPr>
            <a:xfrm>
              <a:off x="1828800" y="5334120"/>
              <a:ext cx="304920" cy="228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Picture 16" descr="Beaker.gif - (2K)"/>
          <p:cNvPicPr/>
          <p:nvPr/>
        </p:nvPicPr>
        <p:blipFill>
          <a:blip r:embed="rId4"/>
          <a:stretch/>
        </p:blipFill>
        <p:spPr>
          <a:xfrm>
            <a:off x="3962520" y="4343400"/>
            <a:ext cx="6778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Hand Safety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Picture 3" descr="safety7"/>
          <p:cNvPicPr/>
          <p:nvPr/>
        </p:nvPicPr>
        <p:blipFill>
          <a:blip r:embed="rId1"/>
          <a:stretch/>
        </p:blipFill>
        <p:spPr>
          <a:xfrm>
            <a:off x="1219320" y="380880"/>
            <a:ext cx="1143000" cy="1090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www.foodprotection.org/aboutIAFP/IconMain.as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0120" y="304920"/>
            <a:ext cx="109512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science lab cartoons, science lab cartoon, science lab picture, science lab pictures, science lab image, science lab images, science lab illustration, science lab illustrations"/>
          <p:cNvPicPr/>
          <p:nvPr/>
        </p:nvPicPr>
        <p:blipFill>
          <a:blip r:embed="rId4"/>
          <a:stretch/>
        </p:blipFill>
        <p:spPr>
          <a:xfrm>
            <a:off x="2619360" y="1523880"/>
            <a:ext cx="481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harp O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4405320" y="-4579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-4167360"/>
          <a:ext cx="415800" cy="15240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4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Times New Roman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Times New Roman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19"/>
          <p:cNvSpPr/>
          <p:nvPr/>
        </p:nvSpPr>
        <p:spPr>
          <a:xfrm>
            <a:off x="4405320" y="-4579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4"/>
          <p:cNvSpPr/>
          <p:nvPr/>
        </p:nvSpPr>
        <p:spPr>
          <a:xfrm>
            <a:off x="4405320" y="180792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2" descr="N:\Science\A. Chavez\Integration\Science TAKS Objective 1\safety2.jpg"/>
          <p:cNvPicPr/>
          <p:nvPr/>
        </p:nvPicPr>
        <p:blipFill>
          <a:blip r:embed="rId1"/>
          <a:stretch/>
        </p:blipFill>
        <p:spPr>
          <a:xfrm>
            <a:off x="7467480" y="304920"/>
            <a:ext cx="1257480" cy="12128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8"/>
          <p:cNvSpPr/>
          <p:nvPr/>
        </p:nvSpPr>
        <p:spPr>
          <a:xfrm>
            <a:off x="1440" y="399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64" descr="scissors"/>
          <p:cNvPicPr/>
          <p:nvPr/>
        </p:nvPicPr>
        <p:blipFill>
          <a:blip r:embed="rId2"/>
          <a:stretch/>
        </p:blipFill>
        <p:spPr>
          <a:xfrm>
            <a:off x="1143000" y="380880"/>
            <a:ext cx="1447920" cy="108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8" descr="knive_under_leg_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2362320"/>
            <a:ext cx="2724120" cy="2251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0" descr="23131920"/>
          <p:cNvPicPr/>
          <p:nvPr/>
        </p:nvPicPr>
        <p:blipFill>
          <a:blip r:embed="rId5"/>
          <a:stretch/>
        </p:blipFill>
        <p:spPr>
          <a:xfrm>
            <a:off x="1219320" y="5486400"/>
            <a:ext cx="1600200" cy="1049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1" descr="limitsin"/>
          <p:cNvPicPr/>
          <p:nvPr/>
        </p:nvPicPr>
        <p:blipFill>
          <a:blip r:embed="rId6"/>
          <a:srcRect l="0" t="66860" r="52231" b="0"/>
          <a:stretch/>
        </p:blipFill>
        <p:spPr>
          <a:xfrm>
            <a:off x="7543800" y="5334120"/>
            <a:ext cx="121284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72"/>
          <p:cNvSpPr/>
          <p:nvPr/>
        </p:nvSpPr>
        <p:spPr>
          <a:xfrm>
            <a:off x="1066680" y="1676520"/>
            <a:ext cx="53341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cut away from fingers and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carry sharp objec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points and tips fac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 and aw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try to catch fall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 instr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sp sharp instrumen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only by the hand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3" dur="1" fill="hold"/>
                                  <p:tgtEl>
                                    <p:spTgt spid="1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harp Object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405320" y="-4579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-4167360"/>
          <a:ext cx="415800" cy="15240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4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Times New Roman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Times New Roman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12"/>
          <p:cNvSpPr/>
          <p:nvPr/>
        </p:nvSpPr>
        <p:spPr>
          <a:xfrm>
            <a:off x="4405320" y="-4579920"/>
            <a:ext cx="33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-4167360"/>
          <a:ext cx="415800" cy="15240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5240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ntique Olive"/>
                          <a:ea typeface="Times New Roman"/>
                        </a:rPr>
                        <a:t>•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lbertus Xb (W1)"/>
                          <a:ea typeface="Times New Roman"/>
                        </a:rPr>
                        <a:t>When using knifes or other sharp objects always walk with the poi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1"/>
          <p:cNvSpPr/>
          <p:nvPr/>
        </p:nvSpPr>
        <p:spPr>
          <a:xfrm>
            <a:off x="4405320" y="180792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23"/>
          <p:cNvSpPr/>
          <p:nvPr/>
        </p:nvSpPr>
        <p:spPr>
          <a:xfrm>
            <a:off x="1440" y="399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5" descr="playgndrubbish400"/>
          <p:cNvPicPr/>
          <p:nvPr/>
        </p:nvPicPr>
        <p:blipFill>
          <a:blip r:embed="rId1"/>
          <a:stretch/>
        </p:blipFill>
        <p:spPr>
          <a:xfrm>
            <a:off x="5681520" y="1905120"/>
            <a:ext cx="3110040" cy="3429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6" descr="N:\Science\A. Chavez\Integration\Science TAKS Objective 1\safety2.jpg"/>
          <p:cNvPicPr/>
          <p:nvPr/>
        </p:nvPicPr>
        <p:blipFill>
          <a:blip r:embed="rId2"/>
          <a:stretch/>
        </p:blipFill>
        <p:spPr>
          <a:xfrm>
            <a:off x="7467480" y="304920"/>
            <a:ext cx="1257480" cy="1212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8" descr="knife_basics_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809880"/>
            <a:ext cx="1820880" cy="2362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9" descr="scissors"/>
          <p:cNvPicPr/>
          <p:nvPr/>
        </p:nvPicPr>
        <p:blipFill>
          <a:blip r:embed="rId5"/>
          <a:stretch/>
        </p:blipFill>
        <p:spPr>
          <a:xfrm>
            <a:off x="1143000" y="380880"/>
            <a:ext cx="1447920" cy="108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0" descr="23131920"/>
          <p:cNvPicPr/>
          <p:nvPr/>
        </p:nvPicPr>
        <p:blipFill>
          <a:blip r:embed="rId6"/>
          <a:stretch/>
        </p:blipFill>
        <p:spPr>
          <a:xfrm>
            <a:off x="1219320" y="5486400"/>
            <a:ext cx="1600200" cy="104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4" descr="limitsin"/>
          <p:cNvPicPr/>
          <p:nvPr/>
        </p:nvPicPr>
        <p:blipFill>
          <a:blip r:embed="rId7"/>
          <a:srcRect l="0" t="66860" r="52231" b="0"/>
          <a:stretch/>
        </p:blipFill>
        <p:spPr>
          <a:xfrm>
            <a:off x="7543800" y="5334120"/>
            <a:ext cx="1212840" cy="12189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5"/>
          <p:cNvSpPr/>
          <p:nvPr/>
        </p:nvSpPr>
        <p:spPr>
          <a:xfrm>
            <a:off x="1066680" y="1676520"/>
            <a:ext cx="5181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 teacher if you get c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n glass and sharp objects do not go in trash c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will clean u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n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2" dur="1" fill="hold"/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Electric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electrical plugs are to be placed into an electrical out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plug electrical equipment after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ll electrical cords, wires, and applianc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ay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9" descr="outlet_safety"/>
          <p:cNvPicPr/>
          <p:nvPr/>
        </p:nvPicPr>
        <p:blipFill>
          <a:blip r:embed="rId1"/>
          <a:stretch/>
        </p:blipFill>
        <p:spPr>
          <a:xfrm>
            <a:off x="4876920" y="1676520"/>
            <a:ext cx="3821040" cy="4238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bd06711_"/>
          <p:cNvPicPr/>
          <p:nvPr/>
        </p:nvPicPr>
        <p:blipFill>
          <a:blip r:embed="rId2"/>
          <a:stretch/>
        </p:blipFill>
        <p:spPr>
          <a:xfrm>
            <a:off x="1143000" y="380880"/>
            <a:ext cx="1295280" cy="1200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ElectricalSafet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5105520"/>
            <a:ext cx="1428480" cy="1212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symbol_safety_office2"/>
          <p:cNvPicPr/>
          <p:nvPr/>
        </p:nvPicPr>
        <p:blipFill>
          <a:blip r:embed="rId5"/>
          <a:srcRect l="42207" t="11507" r="44470" b="75344"/>
          <a:stretch/>
        </p:blipFill>
        <p:spPr>
          <a:xfrm>
            <a:off x="7391520" y="380880"/>
            <a:ext cx="1295280" cy="118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Bulbs_flash.gif - (4K)"/>
          <p:cNvPicPr/>
          <p:nvPr/>
        </p:nvPicPr>
        <p:blipFill>
          <a:blip r:embed="rId6"/>
          <a:stretch/>
        </p:blipFill>
        <p:spPr>
          <a:xfrm>
            <a:off x="7543800" y="5334120"/>
            <a:ext cx="10936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1" dur="1" fill="hold"/>
                                  <p:tgtEl>
                                    <p:spTgt spid="1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6" descr="pki0069l"/>
          <p:cNvPicPr/>
          <p:nvPr/>
        </p:nvPicPr>
        <p:blipFill>
          <a:blip r:embed="rId1"/>
          <a:stretch/>
        </p:blipFill>
        <p:spPr>
          <a:xfrm>
            <a:off x="5334120" y="3809880"/>
            <a:ext cx="3504960" cy="27162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Physic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92" name="Picture 6" descr="bd06711_"/>
          <p:cNvPicPr/>
          <p:nvPr/>
        </p:nvPicPr>
        <p:blipFill>
          <a:blip r:embed="rId2"/>
          <a:stretch/>
        </p:blipFill>
        <p:spPr>
          <a:xfrm>
            <a:off x="1143000" y="380880"/>
            <a:ext cx="1295280" cy="1200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rhan190l"/>
          <p:cNvPicPr/>
          <p:nvPr/>
        </p:nvPicPr>
        <p:blipFill>
          <a:blip r:embed="rId3"/>
          <a:stretch/>
        </p:blipFill>
        <p:spPr>
          <a:xfrm>
            <a:off x="1066680" y="1676520"/>
            <a:ext cx="2895840" cy="2541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limitsin"/>
          <p:cNvPicPr/>
          <p:nvPr/>
        </p:nvPicPr>
        <p:blipFill>
          <a:blip r:embed="rId4"/>
          <a:srcRect l="0" t="0" r="50005" b="66860"/>
          <a:stretch/>
        </p:blipFill>
        <p:spPr>
          <a:xfrm>
            <a:off x="7467480" y="304920"/>
            <a:ext cx="1257480" cy="1207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ani-cartoon-elephant"/>
          <p:cNvPicPr/>
          <p:nvPr/>
        </p:nvPicPr>
        <p:blipFill>
          <a:blip r:embed="rId5"/>
          <a:stretch/>
        </p:blipFill>
        <p:spPr>
          <a:xfrm>
            <a:off x="1447920" y="4952880"/>
            <a:ext cx="1981080" cy="1540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3886200" y="1752480"/>
            <a:ext cx="67057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 all equipment carefu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place a cord whe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one can trip over 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sh all stools in out of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1143000" y="4267080"/>
            <a:ext cx="6705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books picked up ou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of walking is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5" dur="1" fill="hold"/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blurry big bunson"/>
          <p:cNvPicPr/>
          <p:nvPr/>
        </p:nvPicPr>
        <p:blipFill>
          <a:blip r:embed="rId1"/>
          <a:stretch/>
        </p:blipFill>
        <p:spPr>
          <a:xfrm>
            <a:off x="5334120" y="335268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eating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0" name="Picture 5" descr="stock photo : Science Laboratory Safety &amp;amp; Chemical Hazard Signs">
            <a:hlinkClick r:id="rId2"/>
          </p:cNvPr>
          <p:cNvPicPr/>
          <p:nvPr/>
        </p:nvPicPr>
        <p:blipFill>
          <a:blip r:embed="rId3"/>
          <a:srcRect l="5796" t="25534" r="74549" b="55768"/>
          <a:stretch/>
        </p:blipFill>
        <p:spPr>
          <a:xfrm>
            <a:off x="1143000" y="380880"/>
            <a:ext cx="110340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safety5"/>
          <p:cNvPicPr/>
          <p:nvPr/>
        </p:nvPicPr>
        <p:blipFill>
          <a:blip r:embed="rId4"/>
          <a:stretch/>
        </p:blipFill>
        <p:spPr>
          <a:xfrm>
            <a:off x="7467480" y="304920"/>
            <a:ext cx="1285920" cy="1231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protglov"/>
          <p:cNvPicPr/>
          <p:nvPr/>
        </p:nvPicPr>
        <p:blipFill>
          <a:blip r:embed="rId5"/>
          <a:stretch/>
        </p:blipFill>
        <p:spPr>
          <a:xfrm>
            <a:off x="1219320" y="547704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labsafety_flyer_image"/>
          <p:cNvPicPr/>
          <p:nvPr/>
        </p:nvPicPr>
        <p:blipFill>
          <a:blip r:embed="rId6"/>
          <a:srcRect l="77640" t="3639" r="3051" b="81414"/>
          <a:stretch/>
        </p:blipFill>
        <p:spPr>
          <a:xfrm>
            <a:off x="75438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0"/>
          <p:cNvSpPr/>
          <p:nvPr/>
        </p:nvSpPr>
        <p:spPr>
          <a:xfrm>
            <a:off x="1143000" y="1676520"/>
            <a:ext cx="7467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 back hair and loo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thes when work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open fl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look into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 as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hea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point the end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st tube being heat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at yourself or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2438280" y="5791320"/>
            <a:ext cx="74678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heat in a closed co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13" descr="Chemistry_lab.gif - (5K)"/>
          <p:cNvPicPr/>
          <p:nvPr/>
        </p:nvPicPr>
        <p:blipFill>
          <a:blip r:embed="rId7"/>
          <a:stretch/>
        </p:blipFill>
        <p:spPr>
          <a:xfrm>
            <a:off x="5943600" y="1600200"/>
            <a:ext cx="190512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9" dur="1" fill="hold"/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eating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8" name="Picture 8" descr="stock photo : Science Laboratory Safety &amp;amp; Chemical Hazard Signs">
            <a:hlinkClick r:id="rId1"/>
          </p:cNvPr>
          <p:cNvPicPr/>
          <p:nvPr/>
        </p:nvPicPr>
        <p:blipFill>
          <a:blip r:embed="rId2"/>
          <a:srcRect l="5796" t="25534" r="74549" b="55768"/>
          <a:stretch/>
        </p:blipFill>
        <p:spPr>
          <a:xfrm>
            <a:off x="1143000" y="380880"/>
            <a:ext cx="11034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safety5"/>
          <p:cNvPicPr/>
          <p:nvPr/>
        </p:nvPicPr>
        <p:blipFill>
          <a:blip r:embed="rId3"/>
          <a:stretch/>
        </p:blipFill>
        <p:spPr>
          <a:xfrm>
            <a:off x="7467480" y="304920"/>
            <a:ext cx="1285920" cy="1231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protglov"/>
          <p:cNvPicPr/>
          <p:nvPr/>
        </p:nvPicPr>
        <p:blipFill>
          <a:blip r:embed="rId4"/>
          <a:stretch/>
        </p:blipFill>
        <p:spPr>
          <a:xfrm>
            <a:off x="1219320" y="547704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labsafety_flyer_image"/>
          <p:cNvPicPr/>
          <p:nvPr/>
        </p:nvPicPr>
        <p:blipFill>
          <a:blip r:embed="rId5"/>
          <a:srcRect l="77640" t="3639" r="3051" b="81414"/>
          <a:stretch/>
        </p:blipFill>
        <p:spPr>
          <a:xfrm>
            <a:off x="754380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2"/>
          <p:cNvSpPr/>
          <p:nvPr/>
        </p:nvSpPr>
        <p:spPr>
          <a:xfrm>
            <a:off x="1066680" y="1676520"/>
            <a:ext cx="6019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leave a heat source unattend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ed metal and glass look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, use tongs or glov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handl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place hot glassw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ly on lab desk or i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d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15" descr="testtube-10x75"/>
          <p:cNvPicPr/>
          <p:nvPr/>
        </p:nvPicPr>
        <p:blipFill>
          <a:blip r:embed="rId6"/>
          <a:srcRect l="16663" t="0" r="0" b="6384"/>
          <a:stretch/>
        </p:blipFill>
        <p:spPr>
          <a:xfrm>
            <a:off x="5867280" y="2286000"/>
            <a:ext cx="2697120" cy="22636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9" descr="12245"/>
          <p:cNvPicPr/>
          <p:nvPr/>
        </p:nvPicPr>
        <p:blipFill>
          <a:blip r:embed="rId7"/>
          <a:stretch/>
        </p:blipFill>
        <p:spPr>
          <a:xfrm>
            <a:off x="3352680" y="4572000"/>
            <a:ext cx="28195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8" dur="1" fill="hold"/>
                                  <p:tgtEl>
                                    <p:spTgt spid="2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Chemical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Rectangle 48"/>
          <p:cNvSpPr/>
          <p:nvPr/>
        </p:nvSpPr>
        <p:spPr>
          <a:xfrm>
            <a:off x="4405320" y="180792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2"/>
          <p:cNvSpPr/>
          <p:nvPr/>
        </p:nvSpPr>
        <p:spPr>
          <a:xfrm>
            <a:off x="1440" y="399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75" descr="safety6"/>
          <p:cNvPicPr/>
          <p:nvPr/>
        </p:nvPicPr>
        <p:blipFill>
          <a:blip r:embed="rId1"/>
          <a:stretch/>
        </p:blipFill>
        <p:spPr>
          <a:xfrm>
            <a:off x="7543800" y="324000"/>
            <a:ext cx="1219320" cy="1191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8" descr="Beaker_3.gif - (2K)"/>
          <p:cNvPicPr/>
          <p:nvPr/>
        </p:nvPicPr>
        <p:blipFill>
          <a:blip r:embed="rId2"/>
          <a:stretch/>
        </p:blipFill>
        <p:spPr>
          <a:xfrm>
            <a:off x="1295280" y="304920"/>
            <a:ext cx="577800" cy="11811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79"/>
          <p:cNvSpPr/>
          <p:nvPr/>
        </p:nvSpPr>
        <p:spPr>
          <a:xfrm>
            <a:off x="1905120" y="1676520"/>
            <a:ext cx="7619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all labels twice before remov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emical from the contai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83" descr="msds-11"/>
          <p:cNvPicPr/>
          <p:nvPr/>
        </p:nvPicPr>
        <p:blipFill>
          <a:blip r:embed="rId3"/>
          <a:stretch/>
        </p:blipFill>
        <p:spPr>
          <a:xfrm>
            <a:off x="7772400" y="1676520"/>
            <a:ext cx="733320" cy="981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5" descr="lab%20pipette"/>
          <p:cNvPicPr/>
          <p:nvPr/>
        </p:nvPicPr>
        <p:blipFill>
          <a:blip r:embed="rId4"/>
          <a:stretch/>
        </p:blipFill>
        <p:spPr>
          <a:xfrm>
            <a:off x="1219320" y="2743200"/>
            <a:ext cx="3581280" cy="35416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6"/>
          <p:cNvSpPr/>
          <p:nvPr/>
        </p:nvSpPr>
        <p:spPr>
          <a:xfrm>
            <a:off x="4572000" y="259092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use the type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unt of chem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ed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touch, taste,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ell a chemical unless instructed by the tea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mix chemical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less instructed to do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88" descr="PI1477_bottles"/>
          <p:cNvPicPr/>
          <p:nvPr/>
        </p:nvPicPr>
        <p:blipFill>
          <a:blip r:embed="rId5"/>
          <a:stretch/>
        </p:blipFill>
        <p:spPr>
          <a:xfrm>
            <a:off x="1066680" y="1676520"/>
            <a:ext cx="93348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2" dur="1" fill="hold"/>
                                  <p:tgtEl>
                                    <p:spTgt spid="2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Chemical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405320" y="1807920"/>
            <a:ext cx="33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1440" y="39963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5" descr="safety6"/>
          <p:cNvPicPr/>
          <p:nvPr/>
        </p:nvPicPr>
        <p:blipFill>
          <a:blip r:embed="rId1"/>
          <a:stretch/>
        </p:blipFill>
        <p:spPr>
          <a:xfrm>
            <a:off x="7543800" y="324000"/>
            <a:ext cx="1219320" cy="1191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Beaker_3.gif - (2K)"/>
          <p:cNvPicPr/>
          <p:nvPr/>
        </p:nvPicPr>
        <p:blipFill>
          <a:blip r:embed="rId2"/>
          <a:stretch/>
        </p:blipFill>
        <p:spPr>
          <a:xfrm>
            <a:off x="1295280" y="304920"/>
            <a:ext cx="577800" cy="11811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1066680" y="1219320"/>
            <a:ext cx="5181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chemicals carefull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lids on chemical containers when not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iluting an acid, pour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 into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emicals danger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9" descr="10a_tcm2-127538"/>
          <p:cNvPicPr/>
          <p:nvPr/>
        </p:nvPicPr>
        <p:blipFill>
          <a:blip r:embed="rId3"/>
          <a:stretch/>
        </p:blipFill>
        <p:spPr>
          <a:xfrm>
            <a:off x="6858000" y="3505320"/>
            <a:ext cx="1523880" cy="152388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13"/>
          <p:cNvGrpSpPr/>
          <p:nvPr/>
        </p:nvGrpSpPr>
        <p:grpSpPr>
          <a:xfrm>
            <a:off x="1066680" y="5105520"/>
            <a:ext cx="7696440" cy="1218960"/>
            <a:chOff x="1066680" y="5105520"/>
            <a:chExt cx="7696440" cy="1218960"/>
          </a:xfrm>
        </p:grpSpPr>
        <p:pic>
          <p:nvPicPr>
            <p:cNvPr id="233" name="Picture 11" descr="stock photo : Science Laboratory Safety &amp;amp; Chemical Hazard Signs"/>
            <p:cNvPicPr/>
            <p:nvPr/>
          </p:nvPicPr>
          <p:blipFill>
            <a:blip r:embed="rId4"/>
            <a:srcRect l="0" t="49133" r="0" b="29882"/>
            <a:stretch/>
          </p:blipFill>
          <p:spPr>
            <a:xfrm>
              <a:off x="1066680" y="5105520"/>
              <a:ext cx="53341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2" descr="stock photo : Science Laboratory Safety &amp;amp; Chemical Hazard Signs"/>
            <p:cNvPicPr/>
            <p:nvPr/>
          </p:nvPicPr>
          <p:blipFill>
            <a:blip r:embed="rId5"/>
            <a:srcRect l="25943" t="71500" r="25943" b="6384"/>
            <a:stretch/>
          </p:blipFill>
          <p:spPr>
            <a:xfrm>
              <a:off x="6248520" y="5105520"/>
              <a:ext cx="251460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5" name="Picture 14" descr="stock photo : Science Laboratory Safety &amp;amp; Chemical Hazard Signs"/>
          <p:cNvPicPr/>
          <p:nvPr/>
        </p:nvPicPr>
        <p:blipFill>
          <a:blip r:embed="rId6"/>
          <a:srcRect l="51859" t="-3393" r="25943" b="77959"/>
          <a:stretch/>
        </p:blipFill>
        <p:spPr>
          <a:xfrm>
            <a:off x="6858000" y="1676520"/>
            <a:ext cx="1465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23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guineapig_5"/>
          <p:cNvPicPr/>
          <p:nvPr/>
        </p:nvPicPr>
        <p:blipFill>
          <a:blip r:embed="rId1"/>
          <a:stretch/>
        </p:blipFill>
        <p:spPr>
          <a:xfrm>
            <a:off x="4495680" y="228600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Animal Safe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8" name="Picture 5" descr="safety4"/>
          <p:cNvPicPr/>
          <p:nvPr/>
        </p:nvPicPr>
        <p:blipFill>
          <a:blip r:embed="rId2"/>
          <a:stretch/>
        </p:blipFill>
        <p:spPr>
          <a:xfrm>
            <a:off x="7540560" y="304920"/>
            <a:ext cx="11937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066680" y="1676520"/>
            <a:ext cx="548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handle living organisms with teacher permis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treat liv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sms humane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h your han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handling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ima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2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Lab Safety Rul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371600" y="1752480"/>
            <a:ext cx="419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of this PowerPoint has been taken from the power point of…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Baker, Adam Kueltzo, and Todd Katz….former NCHS 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from Lyndon B. Johnson High School Science Web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7" descr="Lab Safety"/>
          <p:cNvPicPr/>
          <p:nvPr/>
        </p:nvPicPr>
        <p:blipFill>
          <a:blip r:embed="rId1"/>
          <a:stretch/>
        </p:blipFill>
        <p:spPr>
          <a:xfrm>
            <a:off x="5638680" y="21337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143000" y="1218960"/>
            <a:ext cx="3733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 the life of all laboratory specime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gave their life for you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tim dead rat"/>
          <p:cNvPicPr/>
          <p:nvPr/>
        </p:nvPicPr>
        <p:blipFill>
          <a:blip r:embed="rId1"/>
          <a:stretch/>
        </p:blipFill>
        <p:spPr>
          <a:xfrm>
            <a:off x="4952880" y="175248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safety4"/>
          <p:cNvPicPr/>
          <p:nvPr/>
        </p:nvPicPr>
        <p:blipFill>
          <a:blip r:embed="rId2"/>
          <a:stretch/>
        </p:blipFill>
        <p:spPr>
          <a:xfrm>
            <a:off x="7540560" y="304920"/>
            <a:ext cx="1193760" cy="12189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685440" y="304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reatment of Specimen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4" name="Picture 10" descr="LabRats"/>
          <p:cNvPicPr/>
          <p:nvPr/>
        </p:nvPicPr>
        <p:blipFill>
          <a:blip r:embed="rId3"/>
          <a:srcRect l="0" t="7698" r="0" b="0"/>
          <a:stretch/>
        </p:blipFill>
        <p:spPr>
          <a:xfrm>
            <a:off x="1447920" y="2438280"/>
            <a:ext cx="2938320" cy="3353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Lab%20Sa2"/>
          <p:cNvPicPr/>
          <p:nvPr/>
        </p:nvPicPr>
        <p:blipFill>
          <a:blip r:embed="rId4"/>
          <a:stretch/>
        </p:blipFill>
        <p:spPr>
          <a:xfrm>
            <a:off x="4724280" y="4191120"/>
            <a:ext cx="396252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9" dur="1" fill="hold"/>
                                  <p:tgtEl>
                                    <p:spTgt spid="2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Plant Safety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7" name="Picture 19" descr="safety8"/>
          <p:cNvPicPr/>
          <p:nvPr/>
        </p:nvPicPr>
        <p:blipFill>
          <a:blip r:embed="rId1"/>
          <a:stretch/>
        </p:blipFill>
        <p:spPr>
          <a:xfrm>
            <a:off x="7543800" y="380880"/>
            <a:ext cx="1143000" cy="1103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0"/>
          <p:cNvSpPr/>
          <p:nvPr/>
        </p:nvSpPr>
        <p:spPr>
          <a:xfrm>
            <a:off x="1066680" y="1676520"/>
            <a:ext cx="51818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eat any plants in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h your hands aft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ing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l your teacher of an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t allerg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23" descr="littleshopofhorrors2"/>
          <p:cNvPicPr/>
          <p:nvPr/>
        </p:nvPicPr>
        <p:blipFill>
          <a:blip r:embed="rId2"/>
          <a:stretch/>
        </p:blipFill>
        <p:spPr>
          <a:xfrm>
            <a:off x="1371600" y="4038480"/>
            <a:ext cx="3657600" cy="24415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24"/>
          <p:cNvSpPr/>
          <p:nvPr/>
        </p:nvSpPr>
        <p:spPr>
          <a:xfrm>
            <a:off x="5410080" y="3962520"/>
            <a:ext cx="2971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ke any organism, plants should be considered possibl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26" descr="palnts"/>
          <p:cNvPicPr/>
          <p:nvPr/>
        </p:nvPicPr>
        <p:blipFill>
          <a:blip r:embed="rId3"/>
          <a:stretch/>
        </p:blipFill>
        <p:spPr>
          <a:xfrm>
            <a:off x="5562720" y="1676520"/>
            <a:ext cx="312408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3" dur="1" fill="hold"/>
                                  <p:tgtEl>
                                    <p:spTgt spid="2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 store room unless given per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ny chemicals from lab or store ro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uch any equipment,  chemicals, or other materials until instructed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5" descr="wall o chemicals"/>
          <p:cNvPicPr/>
          <p:nvPr/>
        </p:nvPicPr>
        <p:blipFill>
          <a:blip r:embed="rId1"/>
          <a:stretch/>
        </p:blipFill>
        <p:spPr>
          <a:xfrm>
            <a:off x="4952880" y="182880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stock photo : Science Laboratory Safety &amp;amp; Chemical Hazard Signs"/>
          <p:cNvPicPr/>
          <p:nvPr/>
        </p:nvPicPr>
        <p:blipFill>
          <a:blip r:embed="rId2"/>
          <a:srcRect l="3718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stock photo : Science Laboratory Safety &amp;amp; Chemical Hazard Signs"/>
          <p:cNvPicPr/>
          <p:nvPr/>
        </p:nvPicPr>
        <p:blipFill>
          <a:blip r:embed="rId3"/>
          <a:srcRect l="3718" t="71500" r="72499" b="4675"/>
          <a:stretch/>
        </p:blipFill>
        <p:spPr>
          <a:xfrm>
            <a:off x="7620120" y="304920"/>
            <a:ext cx="1143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2" dur="1" fill="hold"/>
                                  <p:tgtEl>
                                    <p:spTgt spid="2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t or drink in the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lab glass-ware to eat or drink out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frog Baskin robin"/>
          <p:cNvPicPr/>
          <p:nvPr/>
        </p:nvPicPr>
        <p:blipFill>
          <a:blip r:embed="rId1"/>
          <a:stretch/>
        </p:blipFill>
        <p:spPr>
          <a:xfrm>
            <a:off x="4952880" y="1752480"/>
            <a:ext cx="3733920" cy="3229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Do not eat food, drink beverages, or chew gum in the laboratory"/>
          <p:cNvPicPr/>
          <p:nvPr/>
        </p:nvPicPr>
        <p:blipFill>
          <a:blip r:embed="rId2"/>
          <a:stretch/>
        </p:blipFill>
        <p:spPr>
          <a:xfrm>
            <a:off x="990720" y="533520"/>
            <a:ext cx="1295280" cy="9712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hip_symbols1"/>
          <p:cNvPicPr/>
          <p:nvPr/>
        </p:nvPicPr>
        <p:blipFill>
          <a:blip r:embed="rId3"/>
          <a:srcRect l="75933" t="50072" r="0" b="0"/>
          <a:stretch/>
        </p:blipFill>
        <p:spPr>
          <a:xfrm>
            <a:off x="7620120" y="380880"/>
            <a:ext cx="1141200" cy="1752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eating2"/>
          <p:cNvPicPr/>
          <p:nvPr/>
        </p:nvPicPr>
        <p:blipFill>
          <a:blip r:embed="rId4"/>
          <a:stretch/>
        </p:blipFill>
        <p:spPr>
          <a:xfrm>
            <a:off x="1066680" y="3429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6" dur="1" fill="hold"/>
                                  <p:tgtEl>
                                    <p:spTgt spid="2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rat down back 2"/>
          <p:cNvPicPr/>
          <p:nvPr/>
        </p:nvPicPr>
        <p:blipFill>
          <a:blip r:embed="rId1"/>
          <a:stretch/>
        </p:blipFill>
        <p:spPr>
          <a:xfrm>
            <a:off x="1143000" y="3268800"/>
            <a:ext cx="3352680" cy="3284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1066680" y="1523880"/>
            <a:ext cx="3886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gage i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jo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se pl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You Should Never…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66" name="Picture 9" descr="sea0209l"/>
          <p:cNvPicPr/>
          <p:nvPr/>
        </p:nvPicPr>
        <p:blipFill>
          <a:blip r:embed="rId2"/>
          <a:stretch/>
        </p:blipFill>
        <p:spPr>
          <a:xfrm>
            <a:off x="4941720" y="1676520"/>
            <a:ext cx="3745080" cy="4800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stock photo : Science Laboratory Safety &amp;amp; Chemical Hazard Signs"/>
          <p:cNvPicPr/>
          <p:nvPr/>
        </p:nvPicPr>
        <p:blipFill>
          <a:blip r:embed="rId3"/>
          <a:srcRect l="3718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1" descr="stock photo : Science Laboratory Safety &amp;amp; Chemical Hazard Signs"/>
          <p:cNvPicPr/>
          <p:nvPr/>
        </p:nvPicPr>
        <p:blipFill>
          <a:blip r:embed="rId4"/>
          <a:srcRect l="3718" t="71500" r="72499" b="4675"/>
          <a:stretch/>
        </p:blipFill>
        <p:spPr>
          <a:xfrm>
            <a:off x="7543800" y="304920"/>
            <a:ext cx="11430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1" dur="1" fill="hold"/>
                                  <p:tgtEl>
                                    <p:spTgt spid="2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32" dur="1" fill="hold"/>
                                  <p:tgtEl>
                                    <p:spTgt spid="2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33" dur="1" fill="hold"/>
                                  <p:tgtEl>
                                    <p:spTgt spid="2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34" dur="1" fill="hold"/>
                                  <p:tgtEl>
                                    <p:spTgt spid="2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In case of an emergency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 the locations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 extinguis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 blan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h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yewas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aid kit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you spill a harmful chemical on yourself or in your eyes, start rinsing  immediately and send your partner to get teacher’s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5" descr="fire blanket"/>
          <p:cNvPicPr/>
          <p:nvPr/>
        </p:nvPicPr>
        <p:blipFill>
          <a:blip r:embed="rId1"/>
          <a:stretch/>
        </p:blipFill>
        <p:spPr>
          <a:xfrm>
            <a:off x="1066680" y="1676520"/>
            <a:ext cx="3514680" cy="3657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symbol_em-shower1_sm"/>
          <p:cNvPicPr/>
          <p:nvPr/>
        </p:nvPicPr>
        <p:blipFill>
          <a:blip r:embed="rId2"/>
          <a:stretch/>
        </p:blipFill>
        <p:spPr>
          <a:xfrm>
            <a:off x="7872480" y="380880"/>
            <a:ext cx="814320" cy="1143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fireextinguisher"/>
          <p:cNvPicPr/>
          <p:nvPr/>
        </p:nvPicPr>
        <p:blipFill>
          <a:blip r:embed="rId3"/>
          <a:stretch/>
        </p:blipFill>
        <p:spPr>
          <a:xfrm>
            <a:off x="1066680" y="457200"/>
            <a:ext cx="625680" cy="1066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image38"/>
          <p:cNvPicPr/>
          <p:nvPr/>
        </p:nvPicPr>
        <p:blipFill>
          <a:blip r:embed="rId4"/>
          <a:stretch/>
        </p:blipFill>
        <p:spPr>
          <a:xfrm>
            <a:off x="7238880" y="2438280"/>
            <a:ext cx="1549440" cy="2210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LSS_SafetyShowersEyeWashes"/>
          <p:cNvPicPr/>
          <p:nvPr/>
        </p:nvPicPr>
        <p:blipFill>
          <a:blip r:embed="rId5"/>
          <a:stretch/>
        </p:blipFill>
        <p:spPr>
          <a:xfrm>
            <a:off x="1066680" y="51055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  <p:animClr clrSpc="rgb"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3" dur="1" fill="hold"/>
                                  <p:tgtEl>
                                    <p:spTgt spid="27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Remember to…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81280" y="4572000"/>
            <a:ext cx="5181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Professor_3"/>
          <p:cNvPicPr/>
          <p:nvPr/>
        </p:nvPicPr>
        <p:blipFill>
          <a:blip r:embed="rId1"/>
          <a:stretch/>
        </p:blipFill>
        <p:spPr>
          <a:xfrm>
            <a:off x="1066680" y="1676520"/>
            <a:ext cx="2494080" cy="32004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3581280" y="1600200"/>
            <a:ext cx="525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tay at your work st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intain a clean work ar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ad and follow all dire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port any spills, accidents,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r injury to the teacher immediate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ean and put away all equipment at the end of th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b perio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spose of waste products according to instr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7" dur="1" fill="hold"/>
                                  <p:tgtEl>
                                    <p:spTgt spid="27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1" name="Picture 6" descr="labkidsmistakes"/>
          <p:cNvPicPr/>
          <p:nvPr/>
        </p:nvPicPr>
        <p:blipFill>
          <a:blip r:embed="rId1"/>
          <a:stretch/>
        </p:blipFill>
        <p:spPr>
          <a:xfrm>
            <a:off x="1066680" y="304920"/>
            <a:ext cx="5715000" cy="38862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man"/>
          <p:cNvPicPr/>
          <p:nvPr/>
        </p:nvPicPr>
        <p:blipFill>
          <a:blip r:embed="rId2"/>
          <a:stretch/>
        </p:blipFill>
        <p:spPr>
          <a:xfrm>
            <a:off x="6400800" y="3809880"/>
            <a:ext cx="2352600" cy="2743200"/>
          </a:xfrm>
          <a:prstGeom prst="rect">
            <a:avLst/>
          </a:prstGeom>
          <a:ln w="0">
            <a:noFill/>
          </a:ln>
        </p:spPr>
      </p:pic>
      <p:sp>
        <p:nvSpPr>
          <p:cNvPr id="283" name="WordArt 9"/>
          <p:cNvSpPr txBox="1"/>
          <p:nvPr/>
        </p:nvSpPr>
        <p:spPr>
          <a:xfrm>
            <a:off x="1219320" y="4572000"/>
            <a:ext cx="4952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So Do It Righ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Safety Symbol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9" name="Picture 5" descr="safety pictures"/>
          <p:cNvPicPr/>
          <p:nvPr/>
        </p:nvPicPr>
        <p:blipFill>
          <a:blip r:embed="rId1"/>
          <a:stretch/>
        </p:blipFill>
        <p:spPr>
          <a:xfrm>
            <a:off x="1219320" y="1905120"/>
            <a:ext cx="3713040" cy="3886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Biohazar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0120" y="411120"/>
            <a:ext cx="990360" cy="9511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5029200" y="1828800"/>
            <a:ext cx="3733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safety symb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appear in your laboratory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alert you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ossible da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will remind you to work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1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Use Your He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3920" y="175212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se Caution and Good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 all instructions given by the teac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 the teacher immediately regarding any accident or unsaf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10" descr="far-side-hcl"/>
          <p:cNvPicPr/>
          <p:nvPr/>
        </p:nvPicPr>
        <p:blipFill>
          <a:blip r:embed="rId1"/>
          <a:srcRect l="5824" t="3072" r="4817" b="3081"/>
          <a:stretch/>
        </p:blipFill>
        <p:spPr>
          <a:xfrm>
            <a:off x="1066680" y="1676520"/>
            <a:ext cx="3619800" cy="4800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stock photo : Science Laboratory Safety &amp;amp; Chemical Hazard Signs">
            <a:hlinkClick r:id="rId2"/>
          </p:cNvPr>
          <p:cNvPicPr/>
          <p:nvPr/>
        </p:nvPicPr>
        <p:blipFill>
          <a:blip r:embed="rId3"/>
          <a:srcRect l="51859" t="49384" r="27119" b="30284"/>
          <a:stretch/>
        </p:blipFill>
        <p:spPr>
          <a:xfrm>
            <a:off x="7543800" y="304920"/>
            <a:ext cx="1157400" cy="1218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stock photo : Science Laboratory Safety &amp;amp; Chemical Hazard Signs">
            <a:hlinkClick r:id="rId4"/>
          </p:cNvPr>
          <p:cNvPicPr/>
          <p:nvPr/>
        </p:nvPicPr>
        <p:blipFill>
          <a:blip r:embed="rId5"/>
          <a:srcRect l="3718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Report all incidents and injuiries immediately"/>
          <p:cNvPicPr/>
          <p:nvPr/>
        </p:nvPicPr>
        <p:blipFill>
          <a:blip r:embed="rId6"/>
          <a:stretch/>
        </p:blipFill>
        <p:spPr>
          <a:xfrm>
            <a:off x="6629400" y="4952880"/>
            <a:ext cx="1800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Use Your Head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 lab instructions ahead of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follow lab procedures exa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 do an unauthorized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stock photo : Science Laboratory Safety &amp;amp; Chemical Hazard Signs">
            <a:hlinkClick r:id="rId1"/>
          </p:cNvPr>
          <p:cNvPicPr/>
          <p:nvPr/>
        </p:nvPicPr>
        <p:blipFill>
          <a:blip r:embed="rId2"/>
          <a:srcRect l="51859" t="49384" r="27119" b="30284"/>
          <a:stretch/>
        </p:blipFill>
        <p:spPr>
          <a:xfrm>
            <a:off x="7543800" y="304920"/>
            <a:ext cx="1157400" cy="1218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stock photo : Science Laboratory Safety &amp;amp; Chemical Hazard Signs">
            <a:hlinkClick r:id="rId3"/>
          </p:cNvPr>
          <p:cNvPicPr/>
          <p:nvPr/>
        </p:nvPicPr>
        <p:blipFill>
          <a:blip r:embed="rId4"/>
          <a:srcRect l="3718" t="71500" r="72499" b="4675"/>
          <a:stretch/>
        </p:blipFill>
        <p:spPr>
          <a:xfrm>
            <a:off x="106668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lab12ben"/>
          <p:cNvPicPr/>
          <p:nvPr/>
        </p:nvPicPr>
        <p:blipFill>
          <a:blip r:embed="rId5"/>
          <a:stretch/>
        </p:blipFill>
        <p:spPr>
          <a:xfrm>
            <a:off x="2057400" y="3519360"/>
            <a:ext cx="49528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Eye Safety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51818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r safety goggles when working with chemicals, flames, or heating de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if possibility of flying debr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6" descr="goggles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10280" y="457200"/>
            <a:ext cx="1762200" cy="849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galsseson3"/>
          <p:cNvPicPr/>
          <p:nvPr/>
        </p:nvPicPr>
        <p:blipFill>
          <a:blip r:embed="rId3"/>
          <a:srcRect l="0" t="0" r="0" b="608"/>
          <a:stretch/>
        </p:blipFill>
        <p:spPr>
          <a:xfrm>
            <a:off x="1143000" y="3429000"/>
            <a:ext cx="4191120" cy="3124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safety1"/>
          <p:cNvPicPr/>
          <p:nvPr/>
        </p:nvPicPr>
        <p:blipFill>
          <a:blip r:embed="rId4"/>
          <a:stretch/>
        </p:blipFill>
        <p:spPr>
          <a:xfrm>
            <a:off x="1066680" y="304920"/>
            <a:ext cx="1295640" cy="1247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http://www.mhd.miun.se/~stok/ghetto-gps/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172200" y="1752480"/>
            <a:ext cx="2476440" cy="2159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2"/>
          <p:cNvSpPr/>
          <p:nvPr/>
        </p:nvSpPr>
        <p:spPr>
          <a:xfrm>
            <a:off x="5410080" y="3886200"/>
            <a:ext cx="3505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wear contact lenses let your teacher kn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Eye Safety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1066680" y="1828800"/>
          <a:ext cx="373392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37339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0" y="12193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ase of emergency in which a chemical goes into one’s eye, use the eyewash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goggles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457200"/>
            <a:ext cx="1762200" cy="849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eyewashpractive"/>
          <p:cNvPicPr/>
          <p:nvPr/>
        </p:nvPicPr>
        <p:blipFill>
          <a:blip r:embed="rId5"/>
          <a:stretch/>
        </p:blipFill>
        <p:spPr>
          <a:xfrm>
            <a:off x="5105520" y="37339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5029200" y="175248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sh in water for 15 mins. and notify the teacher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LSS_SafetyShowersEyeWashes"/>
          <p:cNvPicPr/>
          <p:nvPr/>
        </p:nvPicPr>
        <p:blipFill>
          <a:blip r:embed="rId6"/>
          <a:stretch/>
        </p:blipFill>
        <p:spPr>
          <a:xfrm>
            <a:off x="11430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per Attire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2880" y="1676160"/>
            <a:ext cx="3733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all long hai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wear loose clothing that could catch on f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Amy%20&amp;%20Shower"/>
          <p:cNvPicPr/>
          <p:nvPr/>
        </p:nvPicPr>
        <p:blipFill>
          <a:blip r:embed="rId1"/>
          <a:stretch/>
        </p:blipFill>
        <p:spPr>
          <a:xfrm>
            <a:off x="1219320" y="16765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9"/>
          <p:cNvSpPr/>
          <p:nvPr/>
        </p:nvSpPr>
        <p:spPr>
          <a:xfrm>
            <a:off x="1143000" y="5181480"/>
            <a:ext cx="3733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ot wear that completely covers the foo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0" descr="shoesnoshoes"/>
          <p:cNvPicPr/>
          <p:nvPr/>
        </p:nvPicPr>
        <p:blipFill>
          <a:blip r:embed="rId2"/>
          <a:stretch/>
        </p:blipFill>
        <p:spPr>
          <a:xfrm>
            <a:off x="4876920" y="396252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apron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43800" y="304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protglov"/>
          <p:cNvPicPr/>
          <p:nvPr/>
        </p:nvPicPr>
        <p:blipFill>
          <a:blip r:embed="rId5"/>
          <a:stretch/>
        </p:blipFill>
        <p:spPr>
          <a:xfrm>
            <a:off x="1143000" y="304920"/>
            <a:ext cx="12859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Protect Yourself</a:t>
            </a:r>
            <a:br>
              <a:rPr sz="4000"/>
            </a:br>
            <a:r>
              <a:rPr b="1" lang="en-US" sz="4000" spc="-1" strike="noStrike">
                <a:solidFill>
                  <a:srgbClr val="221304"/>
                </a:solidFill>
                <a:latin typeface="Times New Roman"/>
              </a:rPr>
              <a:t>Hand Safety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7" name="Picture 58" descr="safety7"/>
          <p:cNvPicPr/>
          <p:nvPr/>
        </p:nvPicPr>
        <p:blipFill>
          <a:blip r:embed="rId1"/>
          <a:stretch/>
        </p:blipFill>
        <p:spPr>
          <a:xfrm>
            <a:off x="1219320" y="380880"/>
            <a:ext cx="1143000" cy="10908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0" descr="http://www.foodprotection.org/aboutIAFP/IconMain.as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20120" y="304920"/>
            <a:ext cx="109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1" descr="washhands"/>
          <p:cNvPicPr/>
          <p:nvPr/>
        </p:nvPicPr>
        <p:blipFill>
          <a:blip r:embed="rId4"/>
          <a:stretch/>
        </p:blipFill>
        <p:spPr>
          <a:xfrm>
            <a:off x="5943600" y="28954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2"/>
          <p:cNvSpPr/>
          <p:nvPr/>
        </p:nvSpPr>
        <p:spPr>
          <a:xfrm>
            <a:off x="1143000" y="1828800"/>
            <a:ext cx="7620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chemical spills on your skin, notify the teacher and rinse with water for 15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h hands after every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64" descr="mad%20scientist"/>
          <p:cNvPicPr/>
          <p:nvPr/>
        </p:nvPicPr>
        <p:blipFill>
          <a:blip r:embed="rId5"/>
          <a:stretch/>
        </p:blipFill>
        <p:spPr>
          <a:xfrm>
            <a:off x="1344600" y="3276720"/>
            <a:ext cx="2254320" cy="31240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5"/>
          <p:cNvSpPr/>
          <p:nvPr/>
        </p:nvSpPr>
        <p:spPr>
          <a:xfrm>
            <a:off x="3581280" y="3352680"/>
            <a:ext cx="2438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le glassware, sharp tools and heated containers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9" dur="1" fill="hold"/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1T17:50:18Z</dcterms:created>
  <dc:creator>Unit 5</dc:creator>
  <dc:description/>
  <dc:language>en-US</dc:language>
  <cp:lastModifiedBy>Adam Goosby</cp:lastModifiedBy>
  <dcterms:modified xsi:type="dcterms:W3CDTF">2010-08-02T00:55:03Z</dcterms:modified>
  <cp:revision>34</cp:revision>
  <dc:subject>Biology</dc:subject>
  <dc:title>Lab Safety</dc:title>
</cp:coreProperties>
</file>